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9BE-D520-4955-BA06-FE400672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CAA-FE89-4E9E-B12F-0A6B95B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314-9000-40A0-BF5E-7881193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D2D-45DE-4B43-8011-353DDD27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4B9-8779-4F12-8296-97F0D0E2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D31-B2BB-47BB-8762-11735AC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FD4-4B44-435D-AE73-011A5A2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8CBC-D5B7-433A-83C8-96790084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D2A-DBA6-4688-89F2-30831187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920E-7EEB-4821-8264-F6A345C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AFD-D176-4183-A4D9-A62A0DB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C87-FE64-459B-90EE-24DFCB9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1C5C-D3AC-4B6E-A771-9D63375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3B30-E681-49F8-BD79-F5BA659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0617-C57E-43E2-A618-6D32EFE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9382-5F41-4341-B4D6-7DE5F07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589-493E-43EA-915D-D2E09108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D5E-3262-4137-B8F6-3A1BB9D8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E37-066E-4F43-BBFD-F5F3093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A39-4C63-4F32-A536-122051D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71A-3468-4E6C-BB0C-682A37F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081-5B85-41C3-9613-9F15BA1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47F-5C65-439B-A93C-7147013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DA5-BEF1-4649-9D5D-287CDDB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E91-8C8E-4EEA-A4C0-B4E4F2AB857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648-875B-44BC-B8FB-6F90B84BC192}" type="slidenum">
              <a:rPr b="0" lang="en-US" sz="1400" spc="-1" strike="noStrike">
                <a:solidFill>
                  <a:srgbClr val="336666"/>
                </a:solidFill>
                <a:latin typeface="Ribbon131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Storag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for representing letters or numbers using only two digits,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ferred to as Base 2 Binar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28960" y="21337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ory Measu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ilo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,0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m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48,57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b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r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tr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75300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4876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/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where data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mounted inside the computer’s system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tore billions of characters of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in forms of by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bytes or Gi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760480" cy="29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gnetic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ing of data onto disks or tape by magnetizing particles of an oxide based surface co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airly permanent type of storage that can b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05520" y="2633760"/>
            <a:ext cx="3429000" cy="265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608280" cy="3556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piece of flexible Mylar plastic covered with a thin layer of magnetic oxide and sealed inside a protective cov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referred to as a “flopp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½ disk capacity is 1.44 MB or 1,440,000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disk for use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-prot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the disk so that it can not be written to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ip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isk technology manufactured by Iome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100 MB and 250 MB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426708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of storing large amounts of data on tape using helical scan technology to write data at high densities across the tape at an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cal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 of recording data as light and dark spots on CD or DV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 is done through a low-power laser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k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r, non-spotted surfac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– Read Only Memo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CD-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device that uses laser technology to read data that is permanently stored on compact disks, cannot be used to write data to a di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16200000">
            <a:off x="4587120" y="2118600"/>
            <a:ext cx="4572000" cy="307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2432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-Read Writ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orage device that reads data from CD’s and also can write data to CD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CD-ROM, but has the ability to write to C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V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Video Disks – Read Only Mem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s data from CD’s (audio and data) and DVD’s (data or mov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used to write data to a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of events that occurs between the time you turn on a computer and the time that it becomes ready to accept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 diagnostic test to make sure everything i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 the operating system, so the computer can carry out basic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events of the boot proces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on self-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peripher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oper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configuration and custo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h from one component of a computer to another that data uses to tra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run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the micr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variou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licon Ch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icon is melted s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 circuits are embedded into to keep them toge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07040" cy="339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gahertz (mH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surement used to describe the speed of the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gahertz is equal to one million cycles (or pulses)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3 GHz means that the microprocessor’s clock operates at a speed of 1.3 BILLION cycle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114640"/>
            <a:ext cx="3429000" cy="36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of the CP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tium is the 5th generation of the Intel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nerations wer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21360" y="609480"/>
            <a:ext cx="2097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a storage device to go directly to a specific storage location without having to search sequentially from a beginning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not hold data when the power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ses all data when power is l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can read data from disks, but cannot store new data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grated circuits that contain permanent instructions that the computer uses during the boo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50:07Z</dcterms:created>
  <dc:creator>Michelle Guymon</dc:creator>
  <dc:description/>
  <dc:language>en-US</dc:language>
  <cp:lastModifiedBy>TMS</cp:lastModifiedBy>
  <dcterms:modified xsi:type="dcterms:W3CDTF">2004-11-03T19:15:20Z</dcterms:modified>
  <cp:revision>77</cp:revision>
  <dc:subject/>
  <dc:title>Computer Performance Storage Devices &amp; Size</dc:title>
</cp:coreProperties>
</file>